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lling the dynamics of dengue real epide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8 December 2010 vol. 368 no. 1933 5679-569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sta.royalsocietypublishing.org/content/368/1933/5679.f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500A-8A2B-4198-A024-C171E1968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480D-357F-42B0-A2A3-2564E3A9A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B566-CBFF-4FD5-9B96-AF15636ED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A6E4-74E6-420D-BCE5-43BC10B57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4F24-0C97-45B4-8194-C71649DB7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A794-ACDB-4895-B9C4-90A2472AC9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0462-86E6-4D66-BCFA-730D6864EA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BF5C-DB88-44D0-ABA9-AFF4937ED9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B267-A7DF-47A6-ADFB-00AFE79FB3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175A-8260-4F60-82A9-41671F0C68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6A49-0CEF-4E9A-B17F-6A1E98DB9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95D3-BE80-433A-AEF2-F0CD94FF2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ACE4-E553-4CC9-8200-8A6119A459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6953-CED0-4557-8AA8-446910E35F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0761-713A-4954-A460-BFD1BE1293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FFC6-AADB-4B96-B6B2-780090AD05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6E9C-E6FF-4187-8A1A-FC10A4102B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2014-5E3B-44FE-A764-513037BB7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8B51-2B56-42F5-85E8-9AF770668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E478-9CE8-4A38-93E7-934A88468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F609-58B9-4498-AB8B-77961206A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EA87-6009-434C-9301-37CD1BECF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EFE8-81C2-49BD-A856-4FC8C6EC3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F2D1-530C-4219-BADF-628A78837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380880"/>
            <a:ext cx="8229600" cy="609840"/>
          </a:xfrm>
          <a:prstGeom prst="pie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ìnpe_simbolo.jpg" descr="ìnpe_simbolo.jpg"/>
          <p:cNvPicPr/>
          <p:nvPr/>
        </p:nvPicPr>
        <p:blipFill>
          <a:blip r:embed="rId2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FB5C-E6DF-4FC9-93C9-FC0E7EA6C8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229600" cy="609840"/>
          </a:xfrm>
          <a:prstGeom prst="pie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ìnpe_simbolo.jpg" descr="ìnpe_simbolo.jpg"/>
          <p:cNvPicPr/>
          <p:nvPr/>
        </p:nvPicPr>
        <p:blipFill>
          <a:blip r:embed="rId2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6" name="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logocomp.png" descr="logocomp"/>
          <p:cNvPicPr/>
          <p:nvPr/>
        </p:nvPicPr>
        <p:blipFill>
          <a:blip r:embed="rId3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613B-3ADA-4543-9A89-E8948913FC4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Epidemic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ão José dos Campos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pidemic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2" name="image.png" descr=""/>
          <p:cNvPicPr/>
          <p:nvPr/>
        </p:nvPicPr>
        <p:blipFill>
          <a:blip r:embed="rId1"/>
          <a:srcRect l="4783" t="0" r="0" b="50281"/>
          <a:stretch/>
        </p:blipFill>
        <p:spPr>
          <a:xfrm>
            <a:off x="415800" y="1266840"/>
            <a:ext cx="8691840" cy="403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540400"/>
            <a:ext cx="806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Humnst777 BT"/>
                <a:ea typeface="Humnst777 BT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Humnst777 BT"/>
                <a:ea typeface="Humnst777 BT"/>
              </a:rPr>
              <a:t>In epidemiology, an epidemic occurs when new cases of a certain disease, in a given human population, and during a given period, substantially exceed what is expected based on recent experience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.png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269760" y="6496200"/>
            <a:ext cx="2718000" cy="32004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.png" descr="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4200" y="6526080"/>
            <a:ext cx="2718000" cy="32004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.png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41440" y="6381720"/>
            <a:ext cx="3237840" cy="3661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2425680"/>
            <a:ext cx="7147080" cy="1940040"/>
            <a:chOff x="1116000" y="2425680"/>
            <a:chExt cx="7147080" cy="1940040"/>
          </a:xfrm>
        </p:grpSpPr>
        <p:pic>
          <p:nvPicPr>
            <p:cNvPr id="112" name="image.png" descr=""/>
            <p:cNvPicPr/>
            <p:nvPr/>
          </p:nvPicPr>
          <p:blipFill>
            <a:blip r:embed="rId1"/>
            <a:stretch/>
          </p:blipFill>
          <p:spPr>
            <a:xfrm>
              <a:off x="1116000" y="2425680"/>
              <a:ext cx="714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002040" y="242568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4720" y="243648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cks: susceptible, infected, and re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stocks:  susceptible = 9998, infected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t = 1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ime = 30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of an infection: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infected comes into contact 6 with other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% of the contacts are enough to cause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cks: susceptible, infected, and re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stocks:  susceptible = 9998, infected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t = 1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ime = 30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of an infection: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infected comes into contact 6 with other peopl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but can only infect the susceptible 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% of the contacts are enough to cause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ome scenario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of the infection: 2, 4, 8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cts that cause infection: 50%, 25%, 12.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number of contacts is cut by half when the infections reach 2000 or 1000 due to an educational campa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